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156A-40F8-4AF2-9E19-DCA2DC5D4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a family story about the value of a childhood experience, a high school reunion in which you reconnect with a long lost friend and finally understand something that happened in senior year that has always plagued you, a story about your life told from the point of view of an object...you name it. It can be anything.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Jaws</a:t>
            </a:r>
            <a:r>
              <a:rPr b="0" lang="en-US" sz="1200" spc="-1" strike="noStrike">
                <a:solidFill>
                  <a:srgbClr val="000000"/>
                </a:solidFill>
                <a:latin typeface="Arial"/>
              </a:rPr>
              <a:t> theme can make </a:t>
            </a:r>
            <a:r>
              <a:rPr b="1" lang="en-US" sz="1200" spc="-1" strike="noStrike">
                <a:solidFill>
                  <a:srgbClr val="000000"/>
                </a:solidFill>
                <a:latin typeface="Arial"/>
              </a:rPr>
              <a:t>Bambi</a:t>
            </a:r>
            <a:r>
              <a:rPr b="0" lang="en-US" sz="1200" spc="-1" strike="noStrike">
                <a:solidFill>
                  <a:srgbClr val="000000"/>
                </a:solidFill>
                <a:latin typeface="Arial"/>
              </a:rPr>
              <a:t> appear evil... that's the power of music... use it wise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story about any concept, unit or idea from any area of the curriculum, from math to social studies. Of particular interest to us here is combining the immediacy and power of story with reflective practice in the pursuit of content area understand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the story form in education is exciting. But it is also problematic. One of the hallmarks of a good story is that you don't really reflect on it, at least not while you are listening to it. A good story is considered "good" precisely because you become engrossed in it and give yourself over to it. This begs the question, "What is the role of critical thinking in the pedagogy of storytel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n Kay describes the tension between storing and critical analysis succinctly by comparing theater and political rallies. While they appear very similar in terms of activity and production values, they make two very different demands upon the viewer as learner: theater demands we suspend our disbelief, while political rallies demand we critically analyze everything we se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allenge as educators who want to use digital storytelling across the curriculum is to harness the tremendously persuasive power of the story form through a process that imbues it with reflection, problem solving and reasoned thinking. That is, we must use the story form as a vehicle for learning and critical thinking, while not relinquishing its ability to engage and inspire. As students blend storytelling and analysis, they will have the best of both worlds. And the more that students become producers of stories, rather than just consumers, the more powerful a learning tool storytelling will become. Digital storytelling offers great potential in this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hink about "story vs. report" in "either-or" terms -- most media projects are some Every story is going to be a particular blend of story form and documentary or report, so it's more effective to think about media in terms of where it falls on a continu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alyzing media, it's effective to have students identify where particular media pieces lie on the continuum. When planning student media projects, it can be helpful for teachers to identify a point on the continuum that they want students to aim for.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 As education, entertainment, art, technology and storytelling continue to merge, society will need the help of the Combining the story form and critical thinking is one of the most exciting and challenging frontiers in this merger, particularly in education and educational research. That frontier will be largely dominated by digital storytell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37D8B-9749-4E91-A942-360E10AD5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3"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BC74E-0237-442B-946C-DFF8EF43A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6"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2F1AF-6481-45C9-AFD5-0992B2E8E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81"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2"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C8BF6-7FDD-4C48-BB0D-CE06E17C3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CEAFF-AADE-4876-A39B-E933C414D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440D3-C4B8-4319-804B-3451B4174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8"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4CF03-8A40-419F-9F14-C50FEE51B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0"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1"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F3E38-1D98-43C0-9B12-A1DF5BEFC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138EA-E002-478D-8AEB-F1384A3EC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8994F-C616-44CF-8F74-B3FEBF5D7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5"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6"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67038-0AFC-4304-A017-139CBA948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55780-4DC5-44BF-BA2C-8B1599F88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9"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1"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36A14-05F4-432B-9E15-6B4716983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3"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5"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BA9FC-78E0-4677-8A11-FDB4B3C8E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7"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8"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6E9F7-3728-4B49-A8E2-2CA8B8A52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0"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1"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2"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3"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DDFCF-F8D2-4473-BBCB-8F8C6DD53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5"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6"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7"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8"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9"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0"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6CAB7-7D65-4BA4-AA4F-6FF826378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4"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0E5E4-1614-4461-A1C0-2570A9A4D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6"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710AE-EDD8-47FE-A9D1-E1B6E0400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6094-05C6-4CC1-9869-065F113AE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5477C-0423-49B7-9C60-36AA8DA5F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1"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85CA5-F285-4BF7-8C95-BDEDD565A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5"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278F-A5A1-4885-9FE2-4425525DE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9"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D1F8-5871-4EF5-9C65-B357913F6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7FEC-68C8-46D5-AD6A-1F44AB4FC8C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49BA-C3F4-47CD-B1EB-B567932C47B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oe.uh.edu/digital-storytelling/mymama.htm" TargetMode="External"/><Relationship Id="rId2" Type="http://schemas.openxmlformats.org/officeDocument/2006/relationships/hyperlink" Target="http://www.coe.uh.edu/digital-storytelling/almostparadise.htm" TargetMode="External"/><Relationship Id="rId3" Type="http://schemas.openxmlformats.org/officeDocument/2006/relationships/hyperlink" Target="http://www.digitales.us/story_details.php?story_id=71" TargetMode="External"/><Relationship Id="rId4" Type="http://schemas.openxmlformats.org/officeDocument/2006/relationships/hyperlink" Target="http://www.jasonohler.com/projects/edResearch.cfm" TargetMode="External"/><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kanter.blip.tv/file/75884/" TargetMode="External"/><Relationship Id="rId2" Type="http://schemas.openxmlformats.org/officeDocument/2006/relationships/hyperlink" Target="http://kanter.blip.tv/file/75884/" TargetMode="External"/><Relationship Id="rId3" Type="http://schemas.openxmlformats.org/officeDocument/2006/relationships/hyperlink" Target="http://kanter.blip.tv/file/75884/"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real.scps.k12.fl.us/zootraining.htm"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flickr.com/creativecommons" TargetMode="External"/><Relationship Id="rId2" Type="http://schemas.openxmlformats.org/officeDocument/2006/relationships/hyperlink" Target="http://bighugelabs.com/flickr/" TargetMode="External"/><Relationship Id="rId3" Type="http://schemas.openxmlformats.org/officeDocument/2006/relationships/hyperlink" Target="http://bighugelabs.com/flickr/" TargetMode="External"/><Relationship Id="rId4" Type="http://schemas.openxmlformats.org/officeDocument/2006/relationships/hyperlink" Target="http://metaatem.net/words/" TargetMode="External"/><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priceless.com/pricelesstv/"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digitales.us/story_details.php?story_id=67"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21333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nriching Instruction through Digital Stories in the K-12 Classroom</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 Elements</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 Point) of view</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ories are told to make a poi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stories are person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first-pers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person voice is authoritative, seemingly neutra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ramatic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just make a poin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 up a question in the beginn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457200"/>
            <a:ext cx="82296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Emotional Cont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s plain old-fashioned common sense and matur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oring emotional material is a personal decision. </a:t>
            </a: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Gift of Vo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voice is a great gif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voice can show strength and weaknes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not to read, but tal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456840"/>
            <a:ext cx="8229600" cy="5288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The Power of the Soundtr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od gener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irs emo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careful with lyrical 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rumental is bes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yrigh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Be economic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go overboard on materia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ively illustrated with a small number of images and vide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3520" y="9907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Pac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ve along generally at an even pac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rts and stops, pauses, and quickly spurted phras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ols</a:t>
            </a:r>
            <a:endParaRPr b="0" lang="en-US" sz="4400" spc="-1" strike="noStrike">
              <a:solidFill>
                <a:srgbClr val="000000"/>
              </a:solidFill>
              <a:latin typeface="Comic Sans MS"/>
            </a:endParaRPr>
          </a:p>
        </p:txBody>
      </p:sp>
      <p:sp>
        <p:nvSpPr>
          <p:cNvPr id="18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bsites-Public Domai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ft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deo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r voi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teachers?</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eal to the diverse learning styles of the students by using Digital Storytelling as a presentation media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te interest, attention and motivation for the "digital generation" kids in our classrooms.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italize on the creative talents of your own students as they begin to research and tell stories of their own.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students?</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to use the Internet to research rich, deep content while analyzing and synthesizing a wide range of content.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 communications skills by learning to ask questions, express opinions, construct narratives and write for an audience.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computer skills using software that combines a variety of multimedia  including: text, still images, audio and video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45684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personal story that involves a personal change or realizatio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0" name="PlaceHolder 2"/>
          <p:cNvSpPr>
            <a:spLocks noGrp="1"/>
          </p:cNvSpPr>
          <p:nvPr>
            <p:ph/>
          </p:nvPr>
        </p:nvSpPr>
        <p:spPr>
          <a:xfrm>
            <a:off x="762120" y="2133720"/>
            <a:ext cx="7696080" cy="365760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sonal Reflection Stories</a:t>
            </a:r>
            <a:br>
              <a:rPr sz="1600"/>
            </a:br>
            <a:r>
              <a:rPr b="0" lang="en-US" sz="1600" spc="-1" strike="noStrike">
                <a:solidFill>
                  <a:srgbClr val="000000"/>
                </a:solidFill>
                <a:latin typeface="Comic Sans MS"/>
              </a:rPr>
              <a:t>Memorial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vents in our liv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aces in our liv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Our job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covery Stori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ove Stori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iscovery</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ort Stori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yth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ple</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My Mama</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2"/>
              </a:rPr>
              <a:t>Almost Paradise</a:t>
            </a:r>
            <a:endParaRPr b="0" lang="en-US" sz="1600" spc="-1" strike="noStrike">
              <a:solidFill>
                <a:srgbClr val="000000"/>
              </a:solidFill>
              <a:latin typeface="Comic Sans MS"/>
            </a:endParaRPr>
          </a:p>
          <a:p>
            <a:pPr marL="335880" indent="-3358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3"/>
              </a:rPr>
              <a:t>A Dog’s Tale</a:t>
            </a:r>
            <a:endParaRPr b="0" lang="en-US" sz="1400" spc="-1" strike="noStrike">
              <a:solidFill>
                <a:srgbClr val="000000"/>
              </a:solidFill>
              <a:latin typeface="Comic Sans MS"/>
            </a:endParaRPr>
          </a:p>
          <a:p>
            <a:pPr marL="335880" indent="-3358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4"/>
              </a:rPr>
              <a:t>Fox Finds a Friend</a:t>
            </a:r>
            <a:endParaRPr b="0" lang="en-US" sz="1400" spc="-1" strike="noStrike">
              <a:solidFill>
                <a:srgbClr val="000000"/>
              </a:solidFill>
              <a:latin typeface="Comic Sans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tting Started</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eed to be a digital storytell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ware</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 –PhotoStory Movie Maker Adobe Premiere Elements, Audacity</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igital camera</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Voice record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cann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phone USB</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Video camer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mera</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95" name="" descr=""/>
          <p:cNvPicPr/>
          <p:nvPr/>
        </p:nvPicPr>
        <p:blipFill>
          <a:blip r:embed="rId1"/>
          <a:stretch/>
        </p:blipFill>
        <p:spPr>
          <a:xfrm>
            <a:off x="0" y="324000"/>
            <a:ext cx="9144000" cy="665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eo Mistakes</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Common Video Shooting Mistakes from Robert </a:t>
            </a:r>
            <a:r>
              <a:rPr b="0" lang="en-US" sz="3200" spc="-1" strike="noStrike" u="sng">
                <a:solidFill>
                  <a:srgbClr val="00b200"/>
                </a:solidFill>
                <a:uFillTx/>
                <a:latin typeface="Comic Sans MS"/>
                <a:hlinkClick r:id="rId2"/>
              </a:rPr>
              <a:t>Scoble</a:t>
            </a:r>
            <a:r>
              <a:rPr b="0" lang="en-US" sz="3200" spc="-1" strike="noStrike" u="sng">
                <a:solidFill>
                  <a:srgbClr val="00b200"/>
                </a:solidFill>
                <a:uFillTx/>
                <a:latin typeface="Comic Sans MS"/>
                <a:hlinkClick r:id="rId3"/>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wer of music in your digital stor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A Christmas Gor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ttom line:</a:t>
            </a:r>
            <a:r>
              <a:rPr b="0" lang="en-US" sz="2800" spc="-1" strike="noStrike">
                <a:solidFill>
                  <a:srgbClr val="000000"/>
                </a:solidFill>
                <a:latin typeface="Comic Sans MS"/>
              </a:rPr>
              <a:t> Music manipulates and can overtake a story if over used or over played. Make sure your music supplements your story, and not the other way around. When it is the other way around, you have a music video.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ctivity</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them do a quick write following each video about what kind of movie they think they are watching, what they think the story line might be and how they feel toward the young man in the movie. You need to play each movie to get the full effect. They are only 30 seconds long. I suggest you play the movie without any sound at all before playing all three sequences with sound.</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2</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Few Words about Copyright</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mon Sense Copyright -respect for others' property</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itat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miss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nsat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Few Words about Copyright</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r stories are published on the Web, list a disclaimer.  Work done for educational use is under the fair use protection of existing copyright law.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ur Factor Fair Use Test</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
          <p:cNvSpPr/>
          <p:nvPr/>
        </p:nvSpPr>
        <p:spPr>
          <a:xfrm>
            <a:off x="762120" y="2057400"/>
            <a:ext cx="7772400" cy="272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is the character of the use?</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is the nature of the work to be used?</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w much of the work will you use?</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this kind of use were widespread, what effect would it have on the market for the original?</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University of Texas's site devoted to this topic</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 Act</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usic, video, animation:</a:t>
            </a:r>
            <a:r>
              <a:rPr b="0" lang="en-US" sz="2400" spc="-1" strike="noStrike">
                <a:solidFill>
                  <a:srgbClr val="000000"/>
                </a:solidFill>
                <a:latin typeface="Comic Sans MS"/>
              </a:rPr>
              <a:t> Students can use 10% or 30 seconds of songs, movies and other works, whichever is shorte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rds:</a:t>
            </a:r>
            <a:r>
              <a:rPr b="0" lang="en-US" sz="2400" spc="-1" strike="noStrike">
                <a:solidFill>
                  <a:srgbClr val="000000"/>
                </a:solidFill>
                <a:latin typeface="Comic Sans MS"/>
              </a:rPr>
              <a:t> Students can use 10% or up to 1000 words from a text, whichever is shorte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lustrations, photos, graphics:</a:t>
            </a:r>
            <a:r>
              <a:rPr b="0" lang="en-US" sz="2400" spc="-1" strike="noStrike">
                <a:solidFill>
                  <a:srgbClr val="000000"/>
                </a:solidFill>
                <a:latin typeface="Comic Sans MS"/>
              </a:rPr>
              <a:t> This is more vague. Students can use no more than 5 images from one artist; they can use 10% or 15 works from a collection, whichever is smalle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ources</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Univ. of Texas, Office of General Counsel</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opyright Kid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Learning &amp; Leading with Technology</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opyright Condensed</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n academic or "unit of instruction" story</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Science and math</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se the Creative Commons (creativecommons.org)</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alternative form of copyright licensing that gives creative content developers and consumers options not available under the traditional copyright system.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ther than "all rights reserved," developers can select from a range of permission option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216" name=""/>
          <p:cNvSpPr/>
          <p:nvPr/>
        </p:nvSpPr>
        <p:spPr>
          <a:xfrm>
            <a:off x="990720" y="1905120"/>
            <a:ext cx="7391160" cy="25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scover </a:t>
            </a:r>
            <a:r>
              <a:rPr b="0" lang="en-US" sz="3600" spc="-1" strike="noStrike" u="sng">
                <a:solidFill>
                  <a:srgbClr val="00b200"/>
                </a:solidFill>
                <a:uFillTx/>
                <a:latin typeface="Comic Sans MS"/>
                <a:hlinkClick r:id="rId1"/>
              </a:rPr>
              <a:t>Flick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200"/>
                </a:solidFill>
                <a:uFillTx/>
                <a:latin typeface="Comic Sans MS"/>
                <a:hlinkClick r:id="rId2"/>
              </a:rPr>
              <a:t>More fun with </a:t>
            </a:r>
            <a:r>
              <a:rPr b="0" lang="en-US" sz="3600" spc="-1" strike="noStrike" u="sng">
                <a:solidFill>
                  <a:srgbClr val="00b200"/>
                </a:solidFill>
                <a:uFillTx/>
                <a:latin typeface="Comic Sans MS"/>
                <a:hlinkClick r:id="rId3"/>
              </a:rPr>
              <a:t>Flick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200"/>
                </a:solidFill>
                <a:uFillTx/>
                <a:latin typeface="Comic Sans MS"/>
                <a:hlinkClick r:id="rId4"/>
              </a:rPr>
              <a:t>Even more fu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iceless</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http://www.priceless.com/pricelesstv/</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 pictures from flickr, list 3 price, and a statement why it is pricel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monstrate how to sav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09120" y="914400"/>
            <a:ext cx="7620120" cy="49528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137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pic>
        <p:nvPicPr>
          <p:cNvPr id="164" name="" descr=""/>
          <p:cNvPicPr/>
          <p:nvPr/>
        </p:nvPicPr>
        <p:blipFill>
          <a:blip r:embed="rId1"/>
          <a:stretch/>
        </p:blipFill>
        <p:spPr>
          <a:xfrm>
            <a:off x="5867280" y="4438800"/>
            <a:ext cx="2934000" cy="2199960"/>
          </a:xfrm>
          <a:prstGeom prst="rect">
            <a:avLst/>
          </a:prstGeom>
          <a:ln w="0">
            <a:noFill/>
          </a:ln>
        </p:spPr>
      </p:pic>
      <p:sp>
        <p:nvSpPr>
          <p:cNvPr id="165" name=""/>
          <p:cNvSpPr/>
          <p:nvPr/>
        </p:nvSpPr>
        <p:spPr>
          <a:xfrm>
            <a:off x="1219320" y="2971800"/>
            <a:ext cx="792468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4"/>
                    </p:tgtEl>
                  </p:cond>
                </p:stCondLst>
                <p:childTnLst>
                  <p:par>
                    <p:cTn id="3" fill="hold">
                      <p:stCondLst>
                        <p:cond evt="onClick">
                          <p:tgtEl>
                            <p:spTgt spid="16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137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sp>
        <p:nvSpPr>
          <p:cNvPr id="167" name=""/>
          <p:cNvSpPr/>
          <p:nvPr/>
        </p:nvSpPr>
        <p:spPr>
          <a:xfrm>
            <a:off x="1219320" y="2971800"/>
            <a:ext cx="792468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Arial"/>
            </a:endParaRPr>
          </a:p>
        </p:txBody>
      </p:sp>
      <p:pic>
        <p:nvPicPr>
          <p:cNvPr id="168" name="" descr=""/>
          <p:cNvPicPr/>
          <p:nvPr/>
        </p:nvPicPr>
        <p:blipFill>
          <a:blip r:embed="rId1"/>
          <a:stretch/>
        </p:blipFill>
        <p:spPr>
          <a:xfrm>
            <a:off x="6400800" y="4591080"/>
            <a:ext cx="2286000" cy="1714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8"/>
                    </p:tgtEl>
                  </p:cond>
                </p:stCondLst>
                <p:childTnLst>
                  <p:par>
                    <p:cTn id="9" fill="hold">
                      <p:stCondLst>
                        <p:cond evt="onClick">
                          <p:tgtEl>
                            <p:spTgt spid="16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854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ories vs. reports - engagement vs. critical thinking </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25146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pirational stories + critical think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uasive power of the story form</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lection, problem solving and reasoned thinking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bination of story form and analytical re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rsuasion</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ertisements </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cribe/conclude</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conclude</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persuade</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are/contrast</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use/effect </a:t>
            </a:r>
            <a:br>
              <a:rPr sz="3200"/>
            </a:br>
            <a:r>
              <a:rPr b="0" lang="en-US" sz="3200" spc="-1" strike="noStrike" u="sng">
                <a:solidFill>
                  <a:srgbClr val="00b200"/>
                </a:solidFill>
                <a:uFillTx/>
                <a:latin typeface="Comic Sans MS"/>
                <a:hlinkClick r:id="rId1"/>
              </a:rPr>
              <a:t>Road Taken for Peace</a:t>
            </a:r>
            <a:endParaRPr b="0" lang="en-US" sz="32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1218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t frontier will be largely dominated by digital storytelling. </a:t>
            </a:r>
            <a:br>
              <a:rPr sz="4000"/>
            </a:br>
            <a:endParaRPr b="0" lang="en-US" sz="4000" spc="-1" strike="noStrike">
              <a:solidFill>
                <a:srgbClr val="000000"/>
              </a:solidFill>
              <a:latin typeface="Comic Sans MS"/>
            </a:endParaRPr>
          </a:p>
        </p:txBody>
      </p:sp>
      <p:sp>
        <p:nvSpPr>
          <p:cNvPr id="174" name="PlaceHolder 2"/>
          <p:cNvSpPr>
            <a:spLocks noGrp="1"/>
          </p:cNvSpPr>
          <p:nvPr>
            <p:ph/>
          </p:nvPr>
        </p:nvSpPr>
        <p:spPr>
          <a:xfrm>
            <a:off x="762120" y="2971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eachers are more important than ev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304920" y="3048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6:49:22Z</dcterms:created>
  <dc:creator>Longfellow Middle School</dc:creator>
  <dc:description/>
  <dc:language>en-US</dc:language>
  <cp:lastModifiedBy>Wauwatosa School District</cp:lastModifiedBy>
  <dcterms:modified xsi:type="dcterms:W3CDTF">2007-09-30T20:48:31Z</dcterms:modified>
  <cp:revision>10</cp:revision>
  <dc:subject/>
  <dc:title>Digital, Art, Oral and Written literacies </dc:title>
</cp:coreProperties>
</file>